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F7DF1-F58F-4B86-9B1C-D633934F8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5605D-CB90-4574-A2AC-4D9241329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75339-1FEE-4606-A26D-8215F456B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60C57D-3E62-4375-BB52-6ED7251B4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E165B-C343-4EAE-8249-D14ECE3FB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6B465-22F9-489E-8689-869430E84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F7B65-2940-4A43-BA20-49D0D07C7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7FD2D-98BA-4D7F-8318-A190C17E0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A6F5C-1E2B-4D98-8B40-B94BBE4ED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6114E-3B4E-45DC-BC45-723754890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830C1-7012-4859-A778-65C4E4F3B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79B0C-04F1-4989-BAB7-FF081CBDB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A31D6-E32C-410E-B77B-AABCEAF954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4038120"/>
            <a:ext cx="7848720" cy="2087640"/>
          </a:xfrm>
          <a:prstGeom prst="rect">
            <a:avLst/>
          </a:prstGeom>
          <a:noFill/>
          <a:ln w="0">
            <a:noFill/>
          </a:ln>
        </p:spPr>
        <p:txBody>
          <a:bodyPr lIns="90000" rIns="90000" tIns="46800" bIns="46800" anchor="t">
            <a:normAutofit/>
          </a:bodyPr>
          <a:p>
            <a:pPr marL="343080" indent="-343080" algn="ctr">
              <a:spcBef>
                <a:spcPts val="1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fârșitul lumii vine din                       Japonia?</a:t>
            </a:r>
            <a:endParaRPr b="0" lang="en-US" sz="4400" spc="-1" strike="noStrike">
              <a:solidFill>
                <a:srgbClr val="000000"/>
              </a:solidFill>
              <a:latin typeface="Arial"/>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114800" y="3886200"/>
            <a:ext cx="5029200" cy="274320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ponia a devenit epicentrul dezastrului mondial, după ce un cutremur de 8,9 grade s-a produs în Pacific, la doar câţiva kilometri de nord-estul insulei. Şi era doar începutul, pentru că un tsunami de până la 10 metri înălţime a măturat apoi ţărmul, iar în câteva ore s-au produs alte zeci de seisme de peste 5 gra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r>
              <a:rPr b="0" lang="en-US" sz="1800" spc="-1" strike="noStrike">
                <a:solidFill>
                  <a:srgbClr val="000000"/>
                </a:solidFill>
                <a:latin typeface="Arial"/>
              </a:rPr>
              <a:t>După ce cutremurul a lovit Japonia, nori negri de fum s-au ridicat deasupra oraşului Tokio, unde seismul s-a resimţit la o intensitate de 7,9 grade. Posturile de televiziune nipone transmiteau imagini cu angajaţii care încercau să-şi ţină computerele pe birou. Japonezii încă nu intraseră în panică, părăsind disciplinaţi clădirile, aşa cum fuseseră pregătiţi de autorităţi. La doar 40 de minute după aceea, ţărmul din nord-estul arhipelagului a fost măturat de un val seismic care a ajuns în anumite zone până la 10 metri. Cel mai afectat oraş de coastă, Onahama, a fost ras cu totul de pe faţa pământului. În cursul zilei de ieri, “Ţara Soarelui Răsare” a fost lovită de peste 60 de replici de peste 5 grade.</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3428640" y="914040"/>
            <a:ext cx="52578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lanţ provizoriu: 1.000 de morţi</a:t>
            </a:r>
            <a:br>
              <a:rPr sz="1600"/>
            </a:br>
            <a:r>
              <a:rPr b="1" lang="en-US" sz="1600" spc="-1" strike="noStrike">
                <a:solidFill>
                  <a:srgbClr val="000000"/>
                </a:solidFill>
                <a:latin typeface="Arial"/>
              </a:rPr>
              <a:t> la câteva ore de la tragedie, bilanţul provizoriu anunţa că numărul morţilor era de circa 1.000, alte câteva sute de persoane erau rănite şi 88.000 dispărute. Autorităţile au declarat că sute de zboruri au fost anulate, odată cu închiderea mai multor aeroporturi, şi că traficul trenurilor de mare viteză a fost oprit, pentru a se evita alte dezastre. După cutremur şi tsunami, japonezii au avut de luptat, ieri, cu cele peste 80 de incendii izbucnite de-a lungul razei de propagare a undelor seismice, focurile înalte de peste 20 de metri fiind cu greu stinse.</a:t>
            </a:r>
            <a:br>
              <a:rPr sz="1600"/>
            </a:br>
            <a:r>
              <a:rPr b="1" lang="en-US" sz="1600" spc="-1" strike="noStrike">
                <a:solidFill>
                  <a:srgbClr val="000000"/>
                </a:solidFill>
                <a:latin typeface="Arial"/>
              </a:rPr>
              <a:t>Intensitatea seismului din Oceanul Pacific a ieşit din scara Richter</a:t>
            </a:r>
            <a:br>
              <a:rPr sz="1600"/>
            </a:br>
            <a:r>
              <a:rPr b="1" lang="en-US" sz="1600" spc="-1" strike="noStrike">
                <a:solidFill>
                  <a:srgbClr val="000000"/>
                </a:solidFill>
                <a:latin typeface="Arial"/>
              </a:rPr>
              <a:t>Magnitudinea cutremurului  din Japonia a depăşit Scara Richter. Potrivit lui Gheorghe Mărmureanu, directorul Institutului de Fizică a Pământului, pe Richter se pot măsura cutremure cu magnitudinea de până la 8,45 grade. Acesta e motivul pentru care seismul din Japonia e măsurat pe scara moment seismic (MQ) cu magnitudinea de 8,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r>
              <a:rPr b="1" lang="en-US" sz="1600" spc="-1" strike="noStrike">
                <a:solidFill>
                  <a:srgbClr val="000000"/>
                </a:solidFill>
                <a:latin typeface="Arial"/>
              </a:rPr>
              <a:t>Cele mai mari cutremure din ultimii 100 de ani</a:t>
            </a:r>
            <a:br>
              <a:rPr sz="1600"/>
            </a:br>
            <a:r>
              <a:rPr b="1" lang="en-US" sz="1600" spc="-1" strike="noStrike">
                <a:solidFill>
                  <a:srgbClr val="000000"/>
                </a:solidFill>
                <a:latin typeface="Arial"/>
              </a:rPr>
              <a:t>- 1906 - ECUADOR - Un cutremur de 8,8 grade din Pacific, lângă Columbia şi Ecuador, a provocat un tsunami în care au murit 1.000 de persoane.</a:t>
            </a:r>
            <a:br>
              <a:rPr sz="1600"/>
            </a:br>
            <a:r>
              <a:rPr b="1" lang="en-US" sz="1600" spc="-1" strike="noStrike">
                <a:solidFill>
                  <a:srgbClr val="000000"/>
                </a:solidFill>
                <a:latin typeface="Arial"/>
              </a:rPr>
              <a:t>- 1952 - URSS - Un cutremur de 9 grade produs în peninsula Kamceatka, urmat de un tsunami, s-a soldat cu 2.300 de morţi.</a:t>
            </a:r>
            <a:br>
              <a:rPr sz="1600"/>
            </a:br>
            <a:r>
              <a:rPr b="1" lang="en-US" sz="1600" spc="-1" strike="noStrike">
                <a:solidFill>
                  <a:srgbClr val="000000"/>
                </a:solidFill>
                <a:latin typeface="Arial"/>
              </a:rPr>
              <a:t>- 1960 - CHILE - Un cutremur de 9,6 grade, urmat de tsunami, a provocat moartea a 5.700 de persoane în Chile, a 61 în Hawaii şi a 130 în Japonia.</a:t>
            </a:r>
            <a:br>
              <a:rPr sz="1600"/>
            </a:br>
            <a:r>
              <a:rPr b="1" lang="en-US" sz="1600" spc="-1" strike="noStrike">
                <a:solidFill>
                  <a:srgbClr val="000000"/>
                </a:solidFill>
                <a:latin typeface="Arial"/>
              </a:rPr>
              <a:t>- 1964 - ALASKA - Un seism de 9,2 grade, urmat de un tsunami, a dus la moartea a 100 de persoane.</a:t>
            </a:r>
            <a:br>
              <a:rPr sz="1600"/>
            </a:br>
            <a:r>
              <a:rPr b="1" lang="en-US" sz="1600" spc="-1" strike="noStrike">
                <a:solidFill>
                  <a:srgbClr val="000000"/>
                </a:solidFill>
                <a:latin typeface="Arial"/>
              </a:rPr>
              <a:t>- 2004 - ASIA - Un seism de 9,1 grade produs în largul insulei Sumatra a provocat un tsunami care a afectat zece ţări, numărul morţilor ridicându-se la 270.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360" y="4191120"/>
            <a:ext cx="426708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ertizare de tsunami pentru aproape toate coastele Oceanului Pacific</a:t>
            </a:r>
            <a:br>
              <a:rPr sz="1600"/>
            </a:br>
            <a:r>
              <a:rPr b="1" lang="en-US" sz="1600" spc="-1" strike="noStrike">
                <a:solidFill>
                  <a:srgbClr val="000000"/>
                </a:solidFill>
                <a:latin typeface="Arial"/>
              </a:rPr>
              <a:t>Imediat după producerea tsunamiului care a lovit partea de nord-est a Japoniei, specialiştii din ţările de pe coastele Oceanului Pacific au emis alerte de tsunami. Astfel, din Australia până în America Centrală, toate statele şi-au evacuat locuitorii din zonele de coastă, insulele Hawaii fiind lovite de valuri de aproximativ doi metri înălţi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e de alertă nucleară după un incendiu la o centrală</a:t>
            </a:r>
            <a:br>
              <a:rPr sz="2400"/>
            </a:br>
            <a:r>
              <a:rPr b="1" lang="en-US" sz="2400" spc="-1" strike="noStrike">
                <a:solidFill>
                  <a:srgbClr val="000000"/>
                </a:solidFill>
                <a:latin typeface="Arial"/>
              </a:rPr>
              <a:t>Un incendiu a izbucnit la centrala nucleară Onagawa, din prefectura Miyagi. Deşi nu au fost scurgeri radioactive, a fost declarată stare de alertă nucleară, un administrator precizând că procesul de răcire a reactorului “nu decurge conform planulu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17:38:47Z</dcterms:created>
  <dc:creator>DaniAndreea</dc:creator>
  <dc:description/>
  <dc:language>en-US</dc:language>
  <cp:lastModifiedBy>DaniAndreea</cp:lastModifiedBy>
  <dcterms:modified xsi:type="dcterms:W3CDTF">2011-05-18T17:57:08Z</dcterms:modified>
  <cp:revision>2</cp:revision>
  <dc:subject/>
  <dc:title>Slide 1</dc:title>
</cp:coreProperties>
</file>